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563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EB5-043D-4B99-8C9E-5FDECB25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612-9502-4638-B379-6B96556E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8CB8-80E7-45C2-8351-62F655DB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89B-8D28-4EB4-BA42-248A68F5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83D-8C45-4D36-A67A-80028BFD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795-01DC-4900-AB20-4313CF4C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B7F1-D931-4891-B11F-A0C634B2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867-1FC8-4496-B2F0-A279DE56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DE06-136D-4A75-83A9-D797BA4F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EFEA-49B5-4F66-9806-9649D530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CE2-48A6-41E3-9D9F-D4969AB1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E9D-70DB-40DC-BC55-502E852B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3B64-B50B-4E5B-BD05-00C0A0ACF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athsisfun.com/algebra/substitution.html" TargetMode="Externa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ath.com/school/subject1/lessons/S1U4L4GL.html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52280"/>
            <a:ext cx="4648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Jokerman"/>
              </a:rPr>
              <a:t>BELL RINGER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Jokerman"/>
              <a:ea typeface="Joker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00800" y="3657600"/>
            <a:ext cx="2514600" cy="2965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867280" y="304920"/>
            <a:ext cx="2667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ambria Math"/>
              </a:rPr>
              <a:t>Lesson 2-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ambria Math"/>
              <a:ea typeface="Cambria Math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8288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 111 #16-27 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More Examp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85800" y="2057400"/>
                <a:ext cx="39513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09480" y="3276720"/>
                <a:ext cx="485640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3520" y="4572000"/>
                <a:ext cx="45338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1676520" y="13716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and SAME 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Examp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5800" y="1981080"/>
                <a:ext cx="49212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09480" y="3505320"/>
                <a:ext cx="531360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143000" y="13716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IFY ALGEBRAIC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33520" y="4876920"/>
                <a:ext cx="784836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676520" y="1752480"/>
                <a:ext cx="6019560" cy="281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7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How To Substitu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1371600"/>
            <a:ext cx="72388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kim through this Sit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thsisfun.com/algebra/substitution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85800" y="3505320"/>
                <a:ext cx="769608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80880" y="632448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33520" y="2133720"/>
                <a:ext cx="156204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971800" y="2438280"/>
                <a:ext cx="1676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943600" y="2438280"/>
                <a:ext cx="13716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00200" y="919080"/>
                <a:ext cx="274320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828800" y="2133720"/>
                <a:ext cx="4495680" cy="37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876920" y="914400"/>
                <a:ext cx="22860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533520"/>
            <a:ext cx="7696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PRACT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286000"/>
            <a:ext cx="830592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 81 #16 – 38 EV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82 #42 – 48 EV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/C (AL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632448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JOURN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438280"/>
            <a:ext cx="85341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 THIS IN YOUR DISSC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l me what you learned today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f you don’t know the Integer Rul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533520"/>
            <a:ext cx="7696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LES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362320"/>
            <a:ext cx="7924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ING and DIVIDING Inte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ing INTEGER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GUY vs. BAD G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600" y="0"/>
            <a:ext cx="4114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NO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5029200" y="0"/>
            <a:ext cx="3809880" cy="1447920"/>
          </a:xfrm>
          <a:prstGeom prst="rect">
            <a:avLst/>
          </a:prstGeom>
          <a:ln w="0">
            <a:noFill/>
          </a:ln>
        </p:spPr>
      </p:pic>
      <p:sp>
        <p:nvSpPr>
          <p:cNvPr id="52" name="Isosceles Triangle 4"/>
          <p:cNvSpPr/>
          <p:nvPr/>
        </p:nvSpPr>
        <p:spPr>
          <a:xfrm rot="10800000">
            <a:off x="3123720" y="1447560"/>
            <a:ext cx="5867640" cy="3962160"/>
          </a:xfrm>
          <a:prstGeom prst="triangle">
            <a:avLst>
              <a:gd name="adj" fmla="val 50000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Owner\AppData\Local\Microsoft\Windows\Temporary Internet Files\Content.IE5\R3O005QE\MC900432531[1].png"/>
          <p:cNvPicPr/>
          <p:nvPr/>
        </p:nvPicPr>
        <p:blipFill>
          <a:blip r:embed="rId2"/>
          <a:stretch/>
        </p:blipFill>
        <p:spPr>
          <a:xfrm>
            <a:off x="5486400" y="3581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Owner\AppData\Local\Microsoft\Windows\Temporary Internet Files\Content.IE5\ZA5CTEV1\MC910216403[1].png"/>
          <p:cNvPicPr/>
          <p:nvPr/>
        </p:nvPicPr>
        <p:blipFill>
          <a:blip r:embed="rId3"/>
          <a:stretch/>
        </p:blipFill>
        <p:spPr>
          <a:xfrm>
            <a:off x="3886200" y="1600200"/>
            <a:ext cx="126684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Owner\AppData\Local\Microsoft\Windows\Temporary Internet Files\Content.IE5\ZA5CTEV1\MC910216403[1].png"/>
          <p:cNvPicPr/>
          <p:nvPr/>
        </p:nvPicPr>
        <p:blipFill>
          <a:blip r:embed="rId4"/>
          <a:stretch/>
        </p:blipFill>
        <p:spPr>
          <a:xfrm>
            <a:off x="6934320" y="1600200"/>
            <a:ext cx="1266840" cy="1103400"/>
          </a:xfrm>
          <a:prstGeom prst="rect">
            <a:avLst/>
          </a:prstGeom>
          <a:ln w="0">
            <a:noFill/>
          </a:ln>
        </p:spPr>
      </p:pic>
      <p:sp>
        <p:nvSpPr>
          <p:cNvPr id="56" name="Straight Connector 11"/>
          <p:cNvSpPr/>
          <p:nvPr/>
        </p:nvSpPr>
        <p:spPr>
          <a:xfrm flipH="1">
            <a:off x="6019920" y="5423040"/>
            <a:ext cx="38160" cy="1447560"/>
          </a:xfrm>
          <a:prstGeom prst="line">
            <a:avLst/>
          </a:prstGeom>
          <a:ln w="12060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5"/>
          <p:cNvSpPr/>
          <p:nvPr/>
        </p:nvSpPr>
        <p:spPr>
          <a:xfrm>
            <a:off x="4191120" y="5562720"/>
            <a:ext cx="1790640" cy="609480"/>
          </a:xfrm>
          <a:prstGeom prst="line">
            <a:avLst/>
          </a:prstGeom>
          <a:ln w="12060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6"/>
          <p:cNvSpPr/>
          <p:nvPr/>
        </p:nvSpPr>
        <p:spPr>
          <a:xfrm flipH="1">
            <a:off x="6019920" y="5257800"/>
            <a:ext cx="1828800" cy="990720"/>
          </a:xfrm>
          <a:prstGeom prst="line">
            <a:avLst/>
          </a:prstGeom>
          <a:ln w="12060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30" descr=""/>
          <p:cNvPicPr/>
          <p:nvPr/>
        </p:nvPicPr>
        <p:blipFill>
          <a:blip r:embed="rId5"/>
          <a:stretch/>
        </p:blipFill>
        <p:spPr>
          <a:xfrm>
            <a:off x="685800" y="3276720"/>
            <a:ext cx="261468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M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lo people! I'm going to tell you about myself. First of all I'm zero, which isn't a positive or a negative. My friends are positives and negatives though..let me tell you about them thoug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ication - when you multiply integers with same sign, do normal multiplication and the sign of the answer is positive 3 x 4 = 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multiply integers with opposite sign, do normal multiplication and the sign of the answer is positive (-3) x (-4) = 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multiply integers with opposite signs, do normal multiplication and the sign of the answer is negative 3 x (-4) = -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-3) x (4) = -12 -the rules in multiplication are the same rules applying to division, except of course you have to change the sign to divi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e well...im zero. Zero is never negative or positive so yeah....By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514600" y="533520"/>
            <a:ext cx="4267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NO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3059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 sign = POSI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sign = NEG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the Rule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multiply decimal nu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the numbers just as if they were whole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up the numbers on the right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not align the decimal poi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on the right, multiply each digit in the top number by each digit in the bottom number, just as with whole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produ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decimal point in the answer by starting at the right and moving a number of places equal to the sum of the decimal places in both numbers multipli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666880" y="3809880"/>
            <a:ext cx="3353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Examp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13716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Y DEC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" y="1905120"/>
                <a:ext cx="2319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80880" y="632448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590920"/>
            <a:ext cx="746784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0.0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   6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00  Notice there are four total numbers after the decimal so you will need to move the decimal, 4 places to the left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 is .4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52280"/>
            <a:ext cx="8077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Fraction Exa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1371600"/>
            <a:ext cx="72388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more explanation on multiplying fractions, click on this link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th.com/school/subject1/lessons/S1U4L4GL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09480" y="3200400"/>
                <a:ext cx="35830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80880" y="632448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274320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y to solve is to multiply across the top and bottom, than reduce if possib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572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ay to solve is cross reduce than multi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57200" y="5029200"/>
                <a:ext cx="72342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More Examp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295280" y="1752480"/>
                <a:ext cx="56340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04920" y="3429000"/>
                <a:ext cx="80769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21:25:21Z</dcterms:created>
  <dc:creator>rasmusa</dc:creator>
  <dc:description/>
  <dc:language>en-US</dc:language>
  <cp:lastModifiedBy>SCSCHOOLS</cp:lastModifiedBy>
  <dcterms:modified xsi:type="dcterms:W3CDTF">2010-09-27T18:40:06Z</dcterms:modified>
  <cp:revision>13</cp:revision>
  <dc:subject/>
  <dc:title>Slide 1</dc:title>
</cp:coreProperties>
</file>